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396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6E484E-71C5-4507-AA62-9DCD19986B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B64E75E-99F9-4C33-9042-AA2D5F174F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C78B9D-FB6A-412E-A9A1-2D8BCC2C987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EEBEC1F-ABFD-400C-9E37-1A093655D51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583920" y="2835000"/>
            <a:ext cx="5838840" cy="5902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420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138E82-0934-4154-A1CB-B15BA0881E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C16FD1E-ECD5-4D3E-9C2F-9BC5692F27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201CC6-B7FF-4F30-94FE-91F2050258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C8461B-0C1B-432E-BE62-168B1F41A03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0816460-4C06-421F-BA32-CD4FFA25CA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05C3BAB-3A7E-4975-AE98-EE0E0F1F9D3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04E5AF7-0F72-4A82-B7EC-220C54A0E5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4105B91-8F96-45BC-9EF9-C82C4015188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87439AB-C88D-4617-BAF7-E93D6ED6AB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8503E01-38EA-4329-8DC6-637C41ABF4D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CAE4FAB-25A9-4B09-ADAC-A01DD971D4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28A319-2C07-4B96-9FD1-F501782F15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681565-8724-49CC-ACA7-CF9F40FD3C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68CE28-D543-4F30-94D2-09848A8FDE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D736CF-5CCD-472D-980C-7C81FA79CC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F2ECCB-AE04-4CD0-911A-E01DE038EE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ECBC767-AEF4-4500-8BB8-972F2C1CB1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xplain how proxies work for estimating, let's look at an example from outside the softwar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2E92B9-A045-4528-BF6A-773A9DFDD1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ient might have the following requirements for their new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1DABDB-3BD5-4C82-BB09-134E42FA16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er can use historical data to build this table showing typical room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EC8E1C5-F553-41DA-830E-18EDB01B836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25AE9CB-335F-40E6-A7C6-52B2C0FB1C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mbine th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ets of information to calculate the estimated area of the client's new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uld animate this to fill in the table in stages. Start with the first 2 columns, then add the rest of each row (row 1, row 2, then the rest, with total row as final ste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9A1604-26AE-4D2E-B482-5043D038C50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9680" bIns="496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D3F0BEC-F1E1-45A7-A700-929BCC96057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DEA347-8ACD-4EF7-A0BF-5BD1017C05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AE57CD-A68F-4EC2-9DA2-1B66DD414E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E87E59B-E1D5-4EA3-893C-3FA23B0057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FA8E47-A6BD-4555-BD79-7C363449F1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ABE42B4-C944-41D6-8471-9CFB96976A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6C072A-53C0-4D71-A56E-409ABD7A8D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420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01AE0B-F61C-4098-B62A-C3BF9486A5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733C9F-A6CE-4B5E-9E32-1528DC973F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8B1EAB-D5CB-4E33-9F03-3BFAB444D9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B2C981-D9A4-474F-9CB4-7C7CE436C3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EF40F7-F612-4843-97C2-41293CFAFB2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B190B70-F44A-42C3-86A0-34757A84C92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95DD2E7-7392-4B7E-8E70-712FD917E93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11B8C408-C5D7-4AD5-B5F0-33E9C593E5E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64720" y="92664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704880" y="5641920"/>
            <a:ext cx="744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7566480" y="5610240"/>
            <a:ext cx="802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965240" y="1373040"/>
            <a:ext cx="1567080" cy="5875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971720" y="2232000"/>
            <a:ext cx="1568520" cy="7286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982880" y="3238560"/>
            <a:ext cx="1557360" cy="487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979640" y="3995640"/>
            <a:ext cx="1549440" cy="5749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74960" y="4838760"/>
            <a:ext cx="1565280" cy="4903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971720" y="5607000"/>
            <a:ext cx="1568520" cy="581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3962520" y="5472000"/>
            <a:ext cx="1400040" cy="716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, resource,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975280" y="5524560"/>
            <a:ext cx="1154160" cy="6634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3956040" y="4722840"/>
            <a:ext cx="1332000" cy="63648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3968640" y="3033720"/>
            <a:ext cx="1316160" cy="730080"/>
          </a:xfrm>
          <a:prstGeom prst="ellipse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1608120" y="1684440"/>
            <a:ext cx="33192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2798640" y="2043000"/>
            <a:ext cx="0" cy="16200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3560760" y="5837400"/>
            <a:ext cx="38592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5380200" y="5837400"/>
            <a:ext cx="57924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19"/>
          <p:cNvSpPr/>
          <p:nvPr/>
        </p:nvSpPr>
        <p:spPr>
          <a:xfrm flipV="1">
            <a:off x="6556320" y="3451320"/>
            <a:ext cx="0" cy="20541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Line 20"/>
          <p:cNvSpPr/>
          <p:nvPr/>
        </p:nvSpPr>
        <p:spPr>
          <a:xfrm flipH="1">
            <a:off x="5302080" y="3438360"/>
            <a:ext cx="125280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5302080" y="4286160"/>
            <a:ext cx="125280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Line 22"/>
          <p:cNvSpPr/>
          <p:nvPr/>
        </p:nvSpPr>
        <p:spPr>
          <a:xfrm flipH="1">
            <a:off x="3563640" y="3417840"/>
            <a:ext cx="38556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3563640" y="5033880"/>
            <a:ext cx="36828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2798640" y="3046320"/>
            <a:ext cx="0" cy="16524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2798640" y="3824280"/>
            <a:ext cx="0" cy="14436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2798640" y="4656240"/>
            <a:ext cx="0" cy="16200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27"/>
          <p:cNvSpPr/>
          <p:nvPr/>
        </p:nvSpPr>
        <p:spPr>
          <a:xfrm>
            <a:off x="2798640" y="5375160"/>
            <a:ext cx="0" cy="20484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28"/>
          <p:cNvSpPr/>
          <p:nvPr/>
        </p:nvSpPr>
        <p:spPr>
          <a:xfrm flipH="1">
            <a:off x="1536840" y="5857920"/>
            <a:ext cx="42048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5302080" y="5029200"/>
            <a:ext cx="1246320" cy="0"/>
          </a:xfrm>
          <a:prstGeom prst="line">
            <a:avLst/>
          </a:prstGeom>
          <a:ln w="2844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7156440" y="5837400"/>
            <a:ext cx="45396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Line 31"/>
          <p:cNvSpPr/>
          <p:nvPr/>
        </p:nvSpPr>
        <p:spPr>
          <a:xfrm flipH="1">
            <a:off x="3549600" y="4282920"/>
            <a:ext cx="35568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Oval 32"/>
          <p:cNvSpPr/>
          <p:nvPr/>
        </p:nvSpPr>
        <p:spPr>
          <a:xfrm>
            <a:off x="3913200" y="3892680"/>
            <a:ext cx="1384200" cy="73332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pular Estimating Approach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zzy 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ph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Size Estimat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size data on previously developed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divide these data into size categories and subcatego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917640" y="3311640"/>
          <a:ext cx="682632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3311640"/>
                    <a:ext cx="68263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Size Estimat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estimating a new program, compare the planned program with prior programs and select the most appropriate size catego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915840" y="3560760"/>
          <a:ext cx="682632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3560760"/>
                    <a:ext cx="68263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804240" y="2933640"/>
            <a:ext cx="56829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i="1" lang="en-US" sz="2000" spc="-1" strike="noStrike">
                <a:solidFill>
                  <a:srgbClr val="3399ff"/>
                </a:solidFill>
                <a:latin typeface="Arial"/>
              </a:rPr>
              <a:t>For a medium-small, estimated LOC = 23,988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3219480" y="5338800"/>
            <a:ext cx="1233360" cy="439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Arc 7"/>
          <p:cNvSpPr/>
          <p:nvPr/>
        </p:nvSpPr>
        <p:spPr>
          <a:xfrm>
            <a:off x="2262240" y="3048120"/>
            <a:ext cx="996840" cy="2543040"/>
          </a:xfrm>
          <a:custGeom>
            <a:avLst/>
            <a:gdLst/>
            <a:ahLst/>
            <a:rect l="l" t="t" r="r" b="b"/>
            <a:pathLst>
              <a:path fill="none" w="21524" h="21600">
                <a:moveTo>
                  <a:pt x="21490" y="21599"/>
                </a:moveTo>
                <a:cubicBezTo>
                  <a:pt x="10273" y="21582"/>
                  <a:pt x="937" y="12982"/>
                  <a:pt x="-1" y="1806"/>
                </a:cubicBezTo>
              </a:path>
              <a:path stroke="0" w="21524" h="21600">
                <a:moveTo>
                  <a:pt x="21490" y="21599"/>
                </a:moveTo>
                <a:cubicBezTo>
                  <a:pt x="10273" y="21582"/>
                  <a:pt x="937" y="12982"/>
                  <a:pt x="-1" y="1806"/>
                </a:cubicBezTo>
                <a:lnTo>
                  <a:pt x="21524" y="0"/>
                </a:lnTo>
                <a:lnTo>
                  <a:pt x="21490" y="21599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zzy logic estimat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based on relevant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easy to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no special tools or tr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reasonably good estimates in cases where new work is like prior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36120" y="1552320"/>
            <a:ext cx="77122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requires a lot of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ors must be familiar with the historically-developed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only a crude siz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useful for new program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useful for programs that are much larger or smaller than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 Point Estima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unction point is an arbitrary un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application functions (inputs, outputs, files, inquiries, interfac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ed by simple, average, 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job complexity, adjust a further +/- 35%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9740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unction Point Estimating Procedur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2440" y="1539720"/>
            <a:ext cx="7837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numbers of each function type in the applic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the scale and complexity of each function.  Calculate function point tot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historical data on development cost per function point to make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y function points times rate to get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 Point 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0800" y="1536840"/>
            <a:ext cx="7748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usable in the earliest requirements ph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independent of programming language, product design, or development sty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exists a large body of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 well-documented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an active users’ grou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 Point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14320" y="1539720"/>
            <a:ext cx="7548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not directly count an existing product’s function point cont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historical data, it is difficult to improve estimating ski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 do not reflect language, design, or style differe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 are designed for estimating commercial data processing applic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ndard Component Siz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the principal product size leve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s, modules, screen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ypical sizes of ea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new 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component level at which estimation is practic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how many of those components are likely to be in the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maximum and minimum numbers possi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ndard Component Siz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size as the number of components of each type times typical sizes of each type.  Add all of the type sizes to figure a total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for the maximum, minimum, and likely numbers of compon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size as {maximum+4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ikely)+minimum}/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4080" y="59004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ndard Component Sizing - Advantages and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13960" y="1773000"/>
            <a:ext cx="7410600" cy="3965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relevant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no special tools or tr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rough estimate r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use large components early in a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data on large compon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lphi Size Estimat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several estim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makes an independent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submits their estimate to a coordina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rdin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s averag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s on form: average, other estimates (anonymous), and previous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reestimates stabil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vera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ange of original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4080" y="59004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lphi Size Estimating - Advantages and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13960" y="1779120"/>
            <a:ext cx="7410600" cy="4170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produce very accurate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es organization’s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work for any size 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a few expe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ime consu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ubject to common bi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ox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asic iss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d size measures are detail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ors rarely can think in detail early in a pro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ernati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to estimate until you have the detai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your best gu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a suitable prox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ox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proxy should correlate closely to development co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proxy should be easy to visualize early in develop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hould also be a physical entity that can be cou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uilding Cos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ilder needs to know the floor area (in sq. ft.) to estimate the cost of construc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lient normally cannot provide their requirements in sq. ft., but knows the type and number of rooms des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rooms as a proxy for size and translate from these into sq. ft. using historical (typical)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: Clien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dro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, 2 medium and 1 sm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hro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 and 2 me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tch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ving room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ning room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me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y room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ty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me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2080" y="483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storical Building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28800" y="1587600"/>
          <a:ext cx="7410240" cy="4573440"/>
        </p:xfrm>
        <a:graphic>
          <a:graphicData uri="http://schemas.openxmlformats.org/drawingml/2006/table">
            <a:tbl>
              <a:tblPr/>
              <a:tblGrid>
                <a:gridCol w="3255840"/>
                <a:gridCol w="1424160"/>
                <a:gridCol w="1360440"/>
                <a:gridCol w="13698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h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che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ning 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t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estimate siz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backg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prox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xy Calcul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28800" y="1590840"/>
          <a:ext cx="7410240" cy="4570200"/>
        </p:xfrm>
        <a:graphic>
          <a:graphicData uri="http://schemas.openxmlformats.org/drawingml/2006/table">
            <a:tbl>
              <a:tblPr/>
              <a:tblGrid>
                <a:gridCol w="2374920"/>
                <a:gridCol w="1724040"/>
                <a:gridCol w="352440"/>
                <a:gridCol w="879480"/>
                <a:gridCol w="609480"/>
                <a:gridCol w="623880"/>
                <a:gridCol w="84600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mal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h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h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che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ning 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t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sq. ft.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Proxi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eens, reports, scripts,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 chap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s as Prox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ion with development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s of objects correlate reasonably we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LOC correlate very clos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LOC can be estimated using the standard component estimating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C estimate can be calculated from the historical relationship between object LOC and program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s as Prox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objects are selected as application entities, they can be visualized early in develop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and procedures can often be estimated in the same w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s, functions, procedures, and their LOC can be automatically cou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4080" y="59004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LOC Correlation With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elopment Hou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628560" y="1878120"/>
          <a:ext cx="73724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878120"/>
                    <a:ext cx="73724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Proxies - Oth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candi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eens, reports, scripts,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 chap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umber of items correlates with development, you estimate the number of i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 suitable proxy size measure, you can often estimate proxy siz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hapter Pages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639720" y="145908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45908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7960" y="4460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xt Lecture:  The PROBE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estimating consid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ze estimating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consid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85720" y="264960"/>
            <a:ext cx="8555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br>
              <a:rPr sz="4100"/>
            </a:br>
            <a:endParaRPr b="1" lang="en-US" sz="41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6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 size estimates will help you to make better development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skill improves with practi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fined and measured process provides a repeatable basis for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several ways to make siz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Estimate Size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s allow you to make better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accurately size the j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de the job into separable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s assist you in tracking progress.  You c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when the job scope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ter measure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in this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estimating metho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estimating skil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ckgroun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models in other fiel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a large historical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widely us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detailed planning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a size estimate as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size estimating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% + errors are norm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 developers mak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er still use orderly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incipl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4960" y="1528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is an uncertain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knows how big the product will b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arlier the estimate, the less is know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can be biased by business and other pres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is an intuitive learning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y improves with experience and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eople will be better at estimating than oth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incipl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is a ski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ment will be gradu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never get very go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become consist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understand the variability of your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eek an even balance between under- and over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973240" y="1868400"/>
            <a:ext cx="1800" cy="30337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09880" y="439884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909880" y="389556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2909880" y="339264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909880" y="287496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2909880" y="237168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2909880" y="186840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2973240" y="4398840"/>
            <a:ext cx="26719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29732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327168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357012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16"/>
          <p:cNvSpPr/>
          <p:nvPr/>
        </p:nvSpPr>
        <p:spPr>
          <a:xfrm flipV="1">
            <a:off x="386856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41673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18"/>
          <p:cNvSpPr/>
          <p:nvPr/>
        </p:nvSpPr>
        <p:spPr>
          <a:xfrm flipV="1">
            <a:off x="444960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19"/>
          <p:cNvSpPr/>
          <p:nvPr/>
        </p:nvSpPr>
        <p:spPr>
          <a:xfrm flipV="1">
            <a:off x="47480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20"/>
          <p:cNvSpPr/>
          <p:nvPr/>
        </p:nvSpPr>
        <p:spPr>
          <a:xfrm flipV="1">
            <a:off x="504684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34672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22"/>
          <p:cNvSpPr/>
          <p:nvPr/>
        </p:nvSpPr>
        <p:spPr>
          <a:xfrm flipV="1">
            <a:off x="56451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2973240" y="2246400"/>
            <a:ext cx="2671920" cy="1979640"/>
          </a:xfrm>
          <a:custGeom>
            <a:avLst/>
            <a:gdLst/>
            <a:ahLst/>
            <a:rect l="l" t="t" r="r" b="b"/>
            <a:pathLst>
              <a:path w="170" h="126">
                <a:moveTo>
                  <a:pt x="0" y="126"/>
                </a:moveTo>
                <a:lnTo>
                  <a:pt x="19" y="103"/>
                </a:lnTo>
                <a:lnTo>
                  <a:pt x="38" y="0"/>
                </a:lnTo>
                <a:lnTo>
                  <a:pt x="57" y="79"/>
                </a:lnTo>
                <a:lnTo>
                  <a:pt x="76" y="96"/>
                </a:lnTo>
                <a:lnTo>
                  <a:pt x="94" y="106"/>
                </a:lnTo>
                <a:lnTo>
                  <a:pt x="113" y="116"/>
                </a:lnTo>
                <a:lnTo>
                  <a:pt x="132" y="119"/>
                </a:lnTo>
                <a:lnTo>
                  <a:pt x="151" y="92"/>
                </a:lnTo>
                <a:lnTo>
                  <a:pt x="170" y="38"/>
                </a:lnTo>
              </a:path>
            </a:pathLst>
          </a:custGeom>
          <a:noFill/>
          <a:ln w="0">
            <a:solidFill>
              <a:srgbClr val="00008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7"/>
                </a:moveTo>
                <a:lnTo>
                  <a:pt x="19" y="31"/>
                </a:lnTo>
                <a:lnTo>
                  <a:pt x="38" y="0"/>
                </a:lnTo>
                <a:lnTo>
                  <a:pt x="57" y="17"/>
                </a:lnTo>
                <a:lnTo>
                  <a:pt x="76" y="16"/>
                </a:lnTo>
                <a:lnTo>
                  <a:pt x="94" y="13"/>
                </a:lnTo>
                <a:lnTo>
                  <a:pt x="113" y="17"/>
                </a:lnTo>
                <a:lnTo>
                  <a:pt x="132" y="27"/>
                </a:lnTo>
                <a:lnTo>
                  <a:pt x="151" y="15"/>
                </a:lnTo>
                <a:lnTo>
                  <a:pt x="170" y="11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2973240" y="4460760"/>
            <a:ext cx="2671920" cy="33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3"/>
                </a:moveTo>
                <a:lnTo>
                  <a:pt x="19" y="21"/>
                </a:lnTo>
                <a:lnTo>
                  <a:pt x="38" y="0"/>
                </a:lnTo>
                <a:lnTo>
                  <a:pt x="57" y="14"/>
                </a:lnTo>
                <a:lnTo>
                  <a:pt x="76" y="10"/>
                </a:lnTo>
                <a:lnTo>
                  <a:pt x="94" y="12"/>
                </a:lnTo>
                <a:lnTo>
                  <a:pt x="113" y="3"/>
                </a:lnTo>
                <a:lnTo>
                  <a:pt x="132" y="18"/>
                </a:lnTo>
                <a:lnTo>
                  <a:pt x="151" y="13"/>
                </a:lnTo>
                <a:lnTo>
                  <a:pt x="170" y="2"/>
                </a:lnTo>
              </a:path>
            </a:pathLst>
          </a:custGeom>
          <a:noFill/>
          <a:ln w="0">
            <a:solidFill>
              <a:srgbClr val="ff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2515680" y="1019160"/>
            <a:ext cx="41857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stimating Error Range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2704320" y="427356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2485080" y="37702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2485080" y="3267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2485080" y="27478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2485080" y="22464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2485080" y="17431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Rectangle 45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Rectangle 46"/>
          <p:cNvSpPr/>
          <p:nvPr/>
        </p:nvSpPr>
        <p:spPr>
          <a:xfrm rot="16200000">
            <a:off x="1668960" y="3252600"/>
            <a:ext cx="918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5959440" y="2889360"/>
            <a:ext cx="1351080" cy="1006200"/>
          </a:xfrm>
          <a:prstGeom prst="rect">
            <a:avLst/>
          </a:prstGeom>
          <a:solidFill>
            <a:srgbClr val="ffffff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48"/>
          <p:cNvSpPr/>
          <p:nvPr/>
        </p:nvSpPr>
        <p:spPr>
          <a:xfrm>
            <a:off x="6037200" y="3078000"/>
            <a:ext cx="628560" cy="1800"/>
          </a:xfrm>
          <a:prstGeom prst="line">
            <a:avLst/>
          </a:prstGeom>
          <a:ln w="0">
            <a:solidFill>
              <a:srgbClr val="00008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6713640" y="2936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50"/>
          <p:cNvSpPr/>
          <p:nvPr/>
        </p:nvSpPr>
        <p:spPr>
          <a:xfrm>
            <a:off x="6037200" y="3408480"/>
            <a:ext cx="6285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6713640" y="3267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52"/>
          <p:cNvSpPr/>
          <p:nvPr/>
        </p:nvSpPr>
        <p:spPr>
          <a:xfrm>
            <a:off x="6037200" y="3738600"/>
            <a:ext cx="628560" cy="1440"/>
          </a:xfrm>
          <a:prstGeom prst="line">
            <a:avLst/>
          </a:prstGeom>
          <a:ln w="0">
            <a:solidFill>
              <a:srgbClr val="99cc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6713640" y="3597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Rectangle 54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inciple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 advantages of using a defined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known practices that you can work to impro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a framework for gathering estimating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using consistent methods and historical data, your estimates will get more consist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19:59:01Z</cp:lastPrinted>
  <dcterms:modified xsi:type="dcterms:W3CDTF">2018-09-06T00:16:37Z</dcterms:modified>
  <cp:revision>108</cp:revision>
  <dc:subject/>
  <dc:title>No Slide Title</dc:title>
</cp:coreProperties>
</file>